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665-6F5E-4CBE-8644-9A9FFC95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39D-6B22-49DF-A7DE-4B9B5B5D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9A4-3712-4D2A-B864-71F34F52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B22-559D-4701-9373-D005114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77D-3744-4B5A-B2A4-99803542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A63-ECE1-4536-8A6D-9A820DED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9BB-87FA-40E8-B9E3-3A697C1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DA5-8DD4-478C-8A67-10BEA41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2F-3FB4-4A03-9AD8-34D2EC49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E62-3539-41E3-A719-F5771FC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583-6024-403F-82A7-1EB3BCC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B77-CB83-4E82-BC76-146636A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92A-8EC4-4250-86A6-542A1DA0D7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9880" y="53352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as proteínas son macro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9920" y="1336680"/>
            <a:ext cx="819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sa molecu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5,000: no pueden atravesar un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iperm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886200"/>
            <a:ext cx="228600" cy="2743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629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819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819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80060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410080"/>
            <a:ext cx="7596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4952880"/>
            <a:ext cx="7632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410080"/>
            <a:ext cx="7596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571500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952880"/>
            <a:ext cx="7632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26708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62485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3434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267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61722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96252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9436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50292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94360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962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4956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962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55627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53341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191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4267080"/>
            <a:ext cx="762120" cy="762120"/>
          </a:xfrm>
          <a:prstGeom prst="ellipse">
            <a:avLst/>
          </a:prstGeom>
          <a:solidFill>
            <a:srgbClr val="0099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4724280"/>
            <a:ext cx="762120" cy="762120"/>
          </a:xfrm>
          <a:prstGeom prst="ellipse">
            <a:avLst/>
          </a:prstGeom>
          <a:solidFill>
            <a:srgbClr val="0099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60958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5334120"/>
            <a:ext cx="228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572000"/>
            <a:ext cx="228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3962520"/>
            <a:ext cx="228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86200" y="6324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5486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114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159200">
            <a:off x="4648320" y="4419360"/>
            <a:ext cx="533160" cy="533160"/>
          </a:xfrm>
          <a:prstGeom prst="uturnArrow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3372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1028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6172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2578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6248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6248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55627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7150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6483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2485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8880" y="4419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1880" y="4876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2767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7880" y="3276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Niveles de estructura en una proteí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Estructura primaria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: secuencia de aminoácidos unidos por enlace peptídico (Enlace covalente), desde el extremo amino (aa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) hasta el extremo carboxilo terminal (aa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Estructura secundaria</a:t>
            </a: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: helicoide </a:t>
            </a:r>
            <a:r>
              <a:rPr b="0" lang="es-ES_tradnl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 ó sábana plisada </a:t>
            </a:r>
            <a:r>
              <a:rPr b="0" lang="es-ES_tradnl" sz="2400" spc="-1" strike="noStrike">
                <a:solidFill>
                  <a:srgbClr val="009900"/>
                </a:solidFill>
                <a:latin typeface="Symbol"/>
                <a:ea typeface="Symbol"/>
              </a:rPr>
              <a:t></a:t>
            </a: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mantenida por enlaces de hidrógeno entre C=O y NH de enlaces peptídicos que se encuentran a cierta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structura terciaria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: zonas irregulares cuya forma se mantiene a través de interacciones de las cadenas laterales de los aminoá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cuaternar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interacción de dos o más cadenas polipeptíd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60360" y="574560"/>
            <a:ext cx="813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Qué se entiende por conformación nativa de una proteí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rresponde a la forma tridimensional que tiene en la célul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y en el compartimento subcelular específico donde ejerce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unción biológ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2514600"/>
            <a:ext cx="1676520" cy="457200"/>
          </a:xfrm>
          <a:prstGeom prst="flowChartMagneticDrum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3600" y="3200400"/>
            <a:ext cx="25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ína fibrilar en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ormación 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2286000"/>
            <a:ext cx="761760" cy="762120"/>
          </a:xfrm>
          <a:prstGeom prst="flowChartPunchedTap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0040" y="3200400"/>
            <a:ext cx="196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ína fibr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n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4191120"/>
            <a:ext cx="83808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6920" y="4952880"/>
            <a:ext cx="27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ína globular en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ormación 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3434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69320" y="4952880"/>
            <a:ext cx="20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ína glo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n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2286000"/>
            <a:ext cx="533520" cy="4114800"/>
          </a:xfrm>
          <a:custGeom>
            <a:avLst/>
            <a:gdLst>
              <a:gd name="textAreaLeft" fmla="*/ 0 w 533520"/>
              <a:gd name="textAreaRight" fmla="*/ 192600 w 5335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3962520"/>
            <a:ext cx="2743200" cy="761760"/>
          </a:xfrm>
          <a:prstGeom prst="rightArrow">
            <a:avLst>
              <a:gd name="adj1" fmla="val 50000"/>
              <a:gd name="adj2" fmla="val 900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11320" y="41148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88400" y="2174760"/>
            <a:ext cx="21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es fí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1240" y="4724280"/>
            <a:ext cx="26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e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228600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213372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4038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41148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25909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2362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41911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411480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29480" y="914400"/>
            <a:ext cx="82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A ESTRUCTURA PRIMARIA DE UN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FINE LA CONFORMACIÓN FINAL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1560" y="41911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ndo la proteína pierde la conformación nativ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sta se encuentr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natur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no puede ejer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 función bi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0600" y="2286000"/>
            <a:ext cx="767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s proteínas en su conformación nativa pueden cumpl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a función estructural (proteínas alargadas); o bi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a función catalítica (proteínas globulare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90680" y="3809880"/>
            <a:ext cx="66196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as proteínas son heteropolímeros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990720"/>
            <a:ext cx="38124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990720"/>
            <a:ext cx="3808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762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762120"/>
            <a:ext cx="76320" cy="533160"/>
          </a:xfrm>
          <a:custGeom>
            <a:avLst/>
            <a:gdLst>
              <a:gd name="textAreaLeft" fmla="*/ 0 w 76320"/>
              <a:gd name="textAreaRight" fmla="*/ 53640 w 76320"/>
              <a:gd name="textAreaTop" fmla="*/ 21960 h 533160"/>
              <a:gd name="textAreaBottom" fmla="*/ 5112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68200" y="1031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990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000" y="83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6668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25146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04812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25146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04812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04812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048120"/>
            <a:ext cx="304920" cy="304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5238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15238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743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523880"/>
            <a:ext cx="76320" cy="2057400"/>
          </a:xfrm>
          <a:custGeom>
            <a:avLst/>
            <a:gdLst>
              <a:gd name="textAreaLeft" fmla="*/ 22320 w 76320"/>
              <a:gd name="textAreaRight" fmla="*/ 76320 w 7632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523880"/>
            <a:ext cx="152280" cy="2057400"/>
          </a:xfrm>
          <a:custGeom>
            <a:avLst/>
            <a:gdLst>
              <a:gd name="textAreaLeft" fmla="*/ 0 w 152280"/>
              <a:gd name="textAreaRight" fmla="*/ 106920 w 15228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532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505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49528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57150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410080"/>
            <a:ext cx="228600" cy="3812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563868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952880"/>
            <a:ext cx="304920" cy="304920"/>
          </a:xfrm>
          <a:prstGeom prst="plus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334120"/>
            <a:ext cx="304920" cy="304560"/>
          </a:xfrm>
          <a:prstGeom prst="plus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5334120"/>
            <a:ext cx="304920" cy="304560"/>
          </a:xfrm>
          <a:prstGeom prst="plus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5410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5410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5410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5410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5334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334120"/>
            <a:ext cx="228600" cy="3808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5334120"/>
            <a:ext cx="228600" cy="3808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1880" y="5334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410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480060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480060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25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0480" y="5486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66600"/>
            <a:ext cx="26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mopolí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01880" y="38088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s proteínas son asim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6000" y="3394080"/>
            <a:ext cx="4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516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6560" y="39625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7200" y="39625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18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3067200">
            <a:off x="1942920" y="3619440"/>
            <a:ext cx="1526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045200">
            <a:off x="2666880" y="3657600"/>
            <a:ext cx="1526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90920" y="32000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1480" y="3809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080" y="4419720"/>
            <a:ext cx="333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3200" y="4419720"/>
            <a:ext cx="33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76640" y="1717560"/>
            <a:ext cx="333000" cy="4597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7760" y="27432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08720" y="3809880"/>
            <a:ext cx="4149360" cy="1973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s componentes básic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s proteínas: l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inoácido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on asimétricos. El 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atro sustit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98440" y="1371600"/>
            <a:ext cx="3791520" cy="119124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 grupo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es caracter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 dif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a cada amino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5105520"/>
            <a:ext cx="685800" cy="533160"/>
          </a:xfrm>
          <a:custGeom>
            <a:avLst/>
            <a:gdLst>
              <a:gd name="textAreaLeft" fmla="*/ 119880 w 685800"/>
              <a:gd name="textAreaRight" fmla="*/ 497160 w 6858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minoácidos de las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s proteínas están formadas por </a:t>
            </a:r>
            <a:r>
              <a:rPr b="1" lang="es-ES_tradnl" sz="2800" spc="-1" strike="noStrike" u="sng">
                <a:solidFill>
                  <a:srgbClr val="ff3300"/>
                </a:solidFill>
                <a:uFillTx/>
                <a:latin typeface="Times New Roman"/>
              </a:rPr>
              <a:t>20 a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diferenci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ntre los 20 aa radica en sus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cadenas laterales o grupos 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los que tienen diferentes propiedades quím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gunos aminoácidos tienen cadenas laterales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idrofóbic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y otros tienen cadenas laterales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idrofílic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minoácidos apolares o hidrofób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752480"/>
            <a:ext cx="72388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een cadenas laterales hidrof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ubican mayoritariamente en el interior hidrofóbico de un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ienen grupos ioni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ser alif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ser aro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s cadenas laterales forman 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of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é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71600" y="1014480"/>
            <a:ext cx="5827680" cy="1168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76520" y="2295360"/>
            <a:ext cx="12189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62040" y="228600"/>
            <a:ext cx="5784480" cy="520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Times New Roman"/>
              </a:rPr>
              <a:t>Aminoácidos apolares o hidrof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minoácidos polares o hidrofí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523880"/>
            <a:ext cx="6324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seen cadenas laterales hidrofí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den estar en contacto con el medio ac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den tener funciones ác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den tener funcion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den tener funciones heterocíclicas hidrofí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Las cadenas laterales forman inter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ipolo-dip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ulsiones electrost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ntes de hidró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uentes S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467480" y="2133720"/>
            <a:ext cx="962280" cy="1104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91520" y="3352680"/>
            <a:ext cx="12189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0720" y="228600"/>
            <a:ext cx="3352320" cy="9471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minoácidos p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 hidrofí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5577120" cy="628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629400" y="50292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1143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4038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21337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5562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4008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4876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70760" y="49179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a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54100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a 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60199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9144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3623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1337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7150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4520" y="26668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70760" y="59086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a ne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l Enlace Peptí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96000" y="2022480"/>
            <a:ext cx="4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5160" y="1523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6560" y="25909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7200" y="2590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11840" y="838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067200">
            <a:off x="1942920" y="2247840"/>
            <a:ext cx="1526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045200">
            <a:off x="2666880" y="2286000"/>
            <a:ext cx="1526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523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90920" y="18284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11480" y="2438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34840" y="2098800"/>
            <a:ext cx="4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4000" y="16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5040" y="26668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6040" y="26668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50680" y="914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067200">
            <a:off x="5981400" y="232380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9045200">
            <a:off x="6705720" y="236196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1600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629400" y="19051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50320" y="25146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76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54320" y="548640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3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7680" y="4038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3067200">
            <a:off x="4991040" y="5143320"/>
            <a:ext cx="15228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9600" y="5334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576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29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9200" y="46483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60160" y="6095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61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153400">
            <a:off x="4495320" y="320004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1828800"/>
            <a:ext cx="381240" cy="3808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6019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1880" y="411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0160600">
            <a:off x="4724280" y="342864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5000" y="33526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5181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4495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095880" y="525744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172200" y="533376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2940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238880" y="51051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065480"/>
            <a:ext cx="1219320" cy="762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6560" y="383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9560" y="459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8480" y="383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9160" y="459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1120" y="4218120"/>
            <a:ext cx="9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--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066320" y="452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142640" y="4599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42177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4599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4218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4903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362320" y="4598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903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838080" y="3836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38080" y="414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219320" y="376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9200" y="50292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6200" y="3456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840" y="5486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o pept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429000"/>
            <a:ext cx="2895480" cy="2971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5:52:06Z</dcterms:created>
  <dc:creator>Direccion de Informatica</dc:creator>
  <dc:description/>
  <dc:language>en-US</dc:language>
  <cp:lastModifiedBy>Luz María Perez</cp:lastModifiedBy>
  <cp:lastPrinted>2000-08-11T19:58:32Z</cp:lastPrinted>
  <dcterms:modified xsi:type="dcterms:W3CDTF">2001-04-04T15:42:00Z</dcterms:modified>
  <cp:revision>47</cp:revision>
  <dc:subject/>
  <dc:title>Estructura de proteínas Objetivos</dc:title>
</cp:coreProperties>
</file>